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941-C4C9-4DB7-922C-7CF8D64A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20A-8E0F-4EC1-8E08-0D6F0816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C9C-6A32-4113-B00F-B05E8F4D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4E1-1AAF-492F-8CCB-A5D89577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EFB-556D-40FE-9683-CEF0BDA8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D78-1F3D-4B84-9ACE-7DE144D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EE6-C1D9-4AD7-91C5-F8021D8A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E9F-5B89-4E0E-963F-44604A4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222-0253-406D-8E8C-26FB301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108-8724-44BF-A067-C6130B7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980-B981-4EAD-9CA4-8793C7D4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9A2-C308-4DEA-B39D-930E85A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2A1-C083-4ACE-AF21-28B0075E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рвная систем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52720" y="1600200"/>
            <a:ext cx="323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е нерв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́рвная систе́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целостная морфологическая и функциональная совокупность различных взаимосвязанных нервных структур, которая совместно с гуморальной системой обеспечивает взаимосвязанную регуляцию деятельности всех систем организма и реакцию на изменение условий внутренней и внешней среды. Нервная система действует как интегративная система, связывая в одно цел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в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игательную активность и работу других регуляторных систем (эндокринной и иммун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нерв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Центральная нервная сис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спинной мо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Периферическая нервная сис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г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ервные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135080"/>
            <a:ext cx="60483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093680"/>
            <a:ext cx="7848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ферическая нерв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3360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441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53:43Z</dcterms:created>
  <dc:creator>guest</dc:creator>
  <dc:description/>
  <dc:language>en-US</dc:language>
  <cp:lastModifiedBy>guest</cp:lastModifiedBy>
  <dcterms:modified xsi:type="dcterms:W3CDTF">2010-12-02T12:16:50Z</dcterms:modified>
  <cp:revision>2</cp:revision>
  <dc:subject/>
  <dc:title>Нервная система человека</dc:title>
</cp:coreProperties>
</file>